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63F7-4567-4FE6-A142-9C7D9277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4FEF-F8D7-4AD0-BD5B-47F58EBFD3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761C-985C-45CF-BD57-EDFD644C18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A0A1-0ED8-45E0-9B6A-CD29E416F6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13A3-50D8-4D3E-9481-8E76255101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F3AD-ECD3-40CC-BB9C-3964CBBCF1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C02F-AECD-4230-9D50-34CC97A0A1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A8C1-D698-427B-A57B-93D784F07E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4ECB-2BC3-4AC6-B0A8-73627ACA37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8FF8-5283-4A1D-B076-E4B7150761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4D6D-8995-4495-88BD-F75A88A788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140-9063-4368-88C3-0039F1C4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0DB-5ADE-4C8C-BA9F-E2684621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28D-FB02-4EB4-85AF-5A5879A5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C6C-A52C-4FD7-A12C-4126A21C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BAA-B41E-4D40-8C35-BEDBC06D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E62-C9E3-4882-BC9B-F558B077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19F-8B2B-4882-B2BD-10BBF944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5FC-514C-4AB0-934E-F408BFB2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D38-DC6C-4521-9335-C1A6DA1D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1BF-39C1-4F16-9B6F-B5D79348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CE6-D7E8-45D0-B29F-D7DF10B1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66D-2435-4A75-8376-55D334B0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E6F6-A2B3-43CB-BFD7-DB129AE8318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Semibold"/>
              </a:rPr>
              <a:t>Selecting a President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untitled"/>
          <p:cNvPicPr/>
          <p:nvPr/>
        </p:nvPicPr>
        <p:blipFill>
          <a:blip r:embed="rId1"/>
          <a:stretch/>
        </p:blipFill>
        <p:spPr>
          <a:xfrm>
            <a:off x="1523880" y="1143000"/>
            <a:ext cx="6248520" cy="4870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0720" y="52578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rimaries &amp; Cauc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0" descr="untitled"/>
          <p:cNvPicPr/>
          <p:nvPr/>
        </p:nvPicPr>
        <p:blipFill>
          <a:blip r:embed="rId1"/>
          <a:stretch/>
        </p:blipFill>
        <p:spPr>
          <a:xfrm>
            <a:off x="228600" y="228600"/>
            <a:ext cx="8675640" cy="617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untitled"/>
          <p:cNvPicPr/>
          <p:nvPr/>
        </p:nvPicPr>
        <p:blipFill>
          <a:blip r:embed="rId1"/>
          <a:stretch/>
        </p:blipFill>
        <p:spPr>
          <a:xfrm>
            <a:off x="914400" y="457200"/>
            <a:ext cx="710100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2437920"/>
            <a:ext cx="7391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1:  Caucuses &amp; Primaries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The Battle for the Party Faith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2:  Nominating Conventions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“Glorified Infomercials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3:  General Election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The Fight for th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4:  Electoral Col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Power to the Peop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Copperplate Gothic Bold"/>
              </a:rPr>
              <a:t>Presidential Selec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untitled"/>
          <p:cNvPicPr/>
          <p:nvPr/>
        </p:nvPicPr>
        <p:blipFill>
          <a:blip r:embed="rId1"/>
          <a:stretch/>
        </p:blipFill>
        <p:spPr>
          <a:xfrm>
            <a:off x="4800600" y="304920"/>
            <a:ext cx="3809880" cy="2527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4419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Stage 1:  Caucu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295280"/>
          </a:xfrm>
          <a:prstGeom prst="rect">
            <a:avLst/>
          </a:prstGeom>
          <a:solidFill>
            <a:srgbClr val="ffe701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Closed meeting of party members in each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Delegates select the party’s choice for presidential cand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Currently, six states, including Nevada in 2008, offer party caucuses selecting presidential nomine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019920" y="2438280"/>
            <a:ext cx="2514600" cy="2764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rack Obama campaigns in Iow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3" descr="untitled"/>
          <p:cNvPicPr/>
          <p:nvPr/>
        </p:nvPicPr>
        <p:blipFill>
          <a:blip r:embed="rId2"/>
          <a:stretch/>
        </p:blipFill>
        <p:spPr>
          <a:xfrm>
            <a:off x="457200" y="4419720"/>
            <a:ext cx="3276720" cy="228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Picture 14" descr="untitled"/>
          <p:cNvPicPr/>
          <p:nvPr/>
        </p:nvPicPr>
        <p:blipFill>
          <a:blip r:embed="rId3"/>
          <a:stretch/>
        </p:blipFill>
        <p:spPr>
          <a:xfrm>
            <a:off x="5105520" y="4419720"/>
            <a:ext cx="3454200" cy="228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3" name="Text Box 6"/>
          <p:cNvSpPr/>
          <p:nvPr/>
        </p:nvSpPr>
        <p:spPr>
          <a:xfrm>
            <a:off x="2133720" y="4495680"/>
            <a:ext cx="4190760" cy="2764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lary Clinton (D) and Rudy Guilliani (R) campaigning in Iow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untitled"/>
          <p:cNvPicPr/>
          <p:nvPr/>
        </p:nvPicPr>
        <p:blipFill>
          <a:blip r:embed="rId1"/>
          <a:stretch/>
        </p:blipFill>
        <p:spPr>
          <a:xfrm>
            <a:off x="457200" y="2133720"/>
            <a:ext cx="5068800" cy="4152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Stage 1: </a:t>
            </a: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Primar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62360" y="2438280"/>
            <a:ext cx="3429000" cy="365760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imary Season -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nuary - Ju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Who Decides? -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te party organizations for the most part decide the rules for the primaries in a particular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Types of Prim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35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Closed Primar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35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Open Primarie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914400"/>
            <a:ext cx="8076960" cy="1557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Osaka"/>
              </a:rPr>
              <a:t>Presidential Primary Electio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Osaka"/>
              </a:rPr>
              <a:t> - special elections in which voters select candidates to be the party’s nominee for president in the general el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66680" y="5867280"/>
            <a:ext cx="358164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tt Romney campaigning in New Hampsh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Closed Primar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ters may vote in a party's primary only if they are registered members of that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Open Primar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gistered voter may vote in an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rty prima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gardless of his or her own party affil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Methods of Selecting Presidential Delegates by State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7" name="Picture 4" descr="Caucus_Primary"/>
          <p:cNvPicPr/>
          <p:nvPr/>
        </p:nvPicPr>
        <p:blipFill>
          <a:blip r:embed="rId1"/>
          <a:stretch/>
        </p:blipFill>
        <p:spPr>
          <a:xfrm>
            <a:off x="152280" y="762120"/>
            <a:ext cx="8534520" cy="4800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78" name="TextBox 5"/>
          <p:cNvSpPr/>
          <p:nvPr/>
        </p:nvSpPr>
        <p:spPr>
          <a:xfrm>
            <a:off x="380880" y="5638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type of nominating method is currently most popular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eorgia"/>
                <a:ea typeface="ＭＳ Ｐゴシック"/>
              </a:rPr>
              <a:t>Map of 2008 Primary &amp; Caucus Dates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Picture 3" descr="Map_PrimCaucusDates"/>
          <p:cNvPicPr/>
          <p:nvPr/>
        </p:nvPicPr>
        <p:blipFill>
          <a:blip r:embed="rId1"/>
          <a:stretch/>
        </p:blipFill>
        <p:spPr>
          <a:xfrm>
            <a:off x="304920" y="914400"/>
            <a:ext cx="8610480" cy="55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Picture 1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10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4:03:33Z</dcterms:created>
  <dc:creator>Julie Strong</dc:creator>
  <dc:description/>
  <dc:language>en-US</dc:language>
  <cp:lastModifiedBy>hberndt</cp:lastModifiedBy>
  <dcterms:modified xsi:type="dcterms:W3CDTF">2010-03-09T13:10:08Z</dcterms:modified>
  <cp:revision>55</cp:revision>
  <dc:subject/>
  <dc:title>PowerPoint Presentation</dc:title>
</cp:coreProperties>
</file>